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ED9DB-9455-416F-AD0B-CCE475CA9A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E4781-D2FD-4E2F-8729-4601C7491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B4ADC-E33D-4BF0-B1D6-62485252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00C38-ECD2-4FA0-8E3A-9AE4D688955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136E2-42E4-4784-9254-45C76A3F5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1E6A2-21A5-4710-8591-62CE0DC52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2729C-863B-4EC6-A40B-7764104EE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7FD8F-9857-4EA6-8BE2-DCB7F6559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2D445-D28C-4B62-B4ED-D5AC7AFBD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57EAA-9E6E-4D07-826A-C12192443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4E2A1-C5FD-4DB6-BE4E-6F840D612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4C20B-547B-4DEF-BE47-F98247226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034CE6DE-F895-4D4D-A303-2CDEB02871B0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4952880"/>
            <a:ext cx="451980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bind9.html" TargetMode="External"/><Relationship Id="rId2" Type="http://schemas.openxmlformats.org/officeDocument/2006/relationships/hyperlink" Target="http://www.isc.org/products/BIND/bind9-beta.html" TargetMode="External"/><Relationship Id="rId3" Type="http://schemas.openxmlformats.org/officeDocument/2006/relationships/hyperlink" Target="ftp://ftp.isc.org/" TargetMode="External"/><Relationship Id="rId4" Type="http://schemas.openxmlformats.org/officeDocument/2006/relationships/hyperlink" Target="http://www.isc.org/services/public/lists/bind-lists.html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999720"/>
            <a:ext cx="624816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stalling BIND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d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/configu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udo make instal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1E99C-2584-4A09-905B-58799481F79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ppe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xecutab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s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nssec-keygen, dnssec-makekeyset, dnssec-signkey, dnssec-sign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lwresd, named-checkconf, named-check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ndc, rndc-confge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amed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i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host, isc-config.sh, nslookup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supdat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d libraries "happen"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B21C1-3EF2-4FD2-9DE5-D4386B3C8C5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right version is now install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v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8AA5D-674E-4260-A71C-8911B87BD79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A2FE5-7B3D-4CCC-9CEC-A80BACE0DFB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9 Mailing Lis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oining mail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services/public/lists/bind-lists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9-users, bind-annou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bind-users is for bind8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rchi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ml-archives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23659-BFD6-42E7-B903-D85C792184B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6E5E0-886B-46FE-AB13-5BD00C1BC48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trieving 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net Software Consortiu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packages we'll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D6F03-D1C5-4489-9ECA-0384A31C09F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net Software Consortium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urce for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Software: DHCP, NN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der Development: OpenReg (EPP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91D65-D11F-43A1-A428-BD026642605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n use, available, obsolet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on't start to use i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igrate to Version 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(Okay, BIND 8 is faster than BIND 9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9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urrent vers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 Candidate (Bet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napshots (Alph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ever Use Snapshots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9837F-CBBA-487B-A606-3B724E10834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BIND 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/products/BIND/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http://www.isc.org/products/BIND/bind9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http://www.isc.org/products/BIND/bind9-beta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2.rc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ftp.isc.org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 - anonymou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hange Directory to /isc/bind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2rc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tp://ftp.isc.org/isc/bind9/9.2.2rc1/bind-9.2.2rc1.tar.gz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328BC-6456-4909-9AA2-E5502BD9A5D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Packag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SS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ill be needed for DNSSE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et's wait on that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98335-A55A-4308-B463-DF7E9F37D62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07B39-132E-4887-98CF-C08FC5C6F68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npack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ar -xzf bind-9.2.2rc1.tar.gz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compresses and creates direct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-9.2.2rc1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's in ther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lot of stu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configure (scri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doc/arm/Bv9ARM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's Reference Manu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ood source!!!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0FAAC-C2F5-47B2-90F1-10178610EC5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01:37:02Z</dcterms:created>
  <dc:creator>ARIN Net</dc:creator>
  <dc:description/>
  <dc:language>en-US</dc:language>
  <cp:lastModifiedBy>Marmaduke Wildebeeste</cp:lastModifiedBy>
  <cp:lastPrinted>2009-04-22T19:24:48Z</cp:lastPrinted>
  <dcterms:modified xsi:type="dcterms:W3CDTF">2003-06-01T20:46:17Z</dcterms:modified>
  <cp:revision>11</cp:revision>
  <dc:subject/>
  <dc:title>Getting and Installing BIND</dc:title>
</cp:coreProperties>
</file>