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416"/>
        <c:axId val="14220421"/>
      </c:barChart>
      <c:catAx>
        <c:axId val="1866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0421"/>
        <c:crosses val="autoZero"/>
        <c:auto val="1"/>
        <c:lblAlgn val="ctr"/>
        <c:lblOffset val="100"/>
        <c:noMultiLvlLbl val="0"/>
      </c:catAx>
      <c:valAx>
        <c:axId val="14220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C4A-D617-4A6D-B5F8-B6F82591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CA8-D7E0-47E6-B93F-FB6DE210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FF0-A6AE-4D25-81DB-C95A2C54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029-335A-43CF-9E33-B0716620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952-E7A6-4F45-8620-C72E19E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B14-261D-402F-A417-06BDD6B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556-C538-4A9B-B8D5-BF3A800D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D1A-7808-4E23-B0D2-4372E8C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8B9-DAC9-420A-9153-670C6E52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BF4-D2FE-4FD8-BE63-B5985F0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59A-54C8-4BFB-A487-1B2391F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C1D-12FF-4B51-9563-2006DB1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8BDA2-814A-46D6-93EC-9336F27CB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