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74677"/>
        <c:axId val="9432356"/>
      </c:barChart>
      <c:catAx>
        <c:axId val="13774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356"/>
        <c:crosses val="autoZero"/>
        <c:auto val="1"/>
        <c:lblAlgn val="ctr"/>
        <c:lblOffset val="100"/>
        <c:noMultiLvlLbl val="0"/>
      </c:catAx>
      <c:valAx>
        <c:axId val="9432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74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EE2-83B7-4535-8933-CB04BEC7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FA2-1EF3-4138-8114-0376FC60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C05-8B90-4A0E-96F4-42EAE962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D41-F054-45BA-9250-B32B777A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06D-BFD8-4977-8F2C-71AA7EE2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B65-7B1F-4ACE-A2E7-49B07043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F8D-883A-4A93-9D21-D56FEBBE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C9C-D69F-4915-BCC2-5EA8DE66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590-0FB6-471B-BCBE-CAEA023F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2DD-D35F-4A17-9092-F39B84C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65C-B188-46C1-B069-974BBB4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09A-B807-4817-8665-C9C4BC18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68CB8-9C5B-448D-92EB-1A147FC4C7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