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64942"/>
        <c:axId val="72058466"/>
      </c:barChart>
      <c:catAx>
        <c:axId val="68264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8466"/>
        <c:crosses val="autoZero"/>
        <c:auto val="1"/>
        <c:lblAlgn val="ctr"/>
        <c:lblOffset val="100"/>
        <c:noMultiLvlLbl val="0"/>
      </c:catAx>
      <c:valAx>
        <c:axId val="72058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4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B7F-B5A5-4583-9C7D-47E863E7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73B-FDCD-41C0-BB1A-50EF13CA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2AD-F9AE-4757-AC1B-A32E55B7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EC5-1B64-4E1B-9629-7A51A068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153-5D18-40E7-A51C-BBAF2B07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E2E-CF02-458E-86D3-8EC0894D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63B-8638-4918-8688-05BF25B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70B-EA33-4A6D-A705-5D05402C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23E-872E-4204-859F-99AF3A40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ECE-20D6-47C9-B81F-4443E80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479-3394-4A6B-98F1-1EB61A7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421-006D-469F-8B75-7DBF73E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6F720-E9E1-419D-A149-3E8EF6FB0F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