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75464"/>
        <c:axId val="23164095"/>
      </c:barChart>
      <c:catAx>
        <c:axId val="76475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64095"/>
        <c:crosses val="autoZero"/>
        <c:auto val="1"/>
        <c:lblAlgn val="ctr"/>
        <c:lblOffset val="100"/>
        <c:noMultiLvlLbl val="0"/>
      </c:catAx>
      <c:valAx>
        <c:axId val="23164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75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17C-A4E7-47F7-A598-94CDE977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A65-6B6E-4111-B30D-D7C644D2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EC4-528F-46B0-85FA-4C6DCC41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A8C-3B30-4739-AA01-52838183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B64-EF2C-4219-8994-1C20DBA9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F96-152A-4C33-9F1A-A7996DED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0B7-AA80-4F7B-9DA8-F2E1553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129-1838-4920-B40A-74501B98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DE8-E443-482C-85B2-3B39D8DE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1DD-BB0D-4782-8534-EAE70B78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A9B-EB47-41F0-9B7A-CF4B1B4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A0C-64A0-41C9-BEDE-0B75315D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02E67-2B7C-49FE-A7D6-401471BF05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