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35431"/>
        <c:axId val="55548552"/>
      </c:barChart>
      <c:catAx>
        <c:axId val="50135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48552"/>
        <c:crosses val="autoZero"/>
        <c:auto val="1"/>
        <c:lblAlgn val="ctr"/>
        <c:lblOffset val="100"/>
        <c:noMultiLvlLbl val="0"/>
      </c:catAx>
      <c:valAx>
        <c:axId val="55548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35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4B7-41DC-418A-B250-19ADE4F8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1DF-3DD7-4B9A-90F3-5476AAF3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43C-F957-489A-BF71-0ED5A787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0D4-236C-4EAD-B911-2594D7BF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0E1-FFE0-452D-9B67-D2C40F6A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DA4-C99E-4598-B6A8-52F8D109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EFF-1268-4E37-8D02-0BD2BC9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9EE-C30F-48E8-9CD9-E68CABD0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46F-3A90-4276-B57E-F87B2229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458-2A73-4471-AAA1-DD0ED92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9E5-685A-4AC5-92F5-BFA0020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45E-E127-4814-BA97-5DD8D8A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52323-FAAD-4826-89B3-5010F0FC80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