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45076"/>
        <c:axId val="46592958"/>
      </c:barChart>
      <c:catAx>
        <c:axId val="80445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92958"/>
        <c:crosses val="autoZero"/>
        <c:auto val="1"/>
        <c:lblAlgn val="ctr"/>
        <c:lblOffset val="100"/>
        <c:noMultiLvlLbl val="0"/>
      </c:catAx>
      <c:valAx>
        <c:axId val="46592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45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1C2-A442-4B74-9021-217C82D3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455-F46F-40DE-8678-B2CB845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54B-19BB-4C31-A546-70E2D598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9D0-BBD7-492E-8F22-A020193F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E95-085E-4A3C-BB79-21F20CF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2E3-C9B2-4340-B22C-E2E29C1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2C0-B81C-4DBA-AB83-2775632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07F-FC9B-439D-A3B4-28CC328A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33A-1C30-4073-A62D-AE2DEED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B1A-74A6-4809-B53C-C8F086A6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D92-8B69-4702-912D-7C63B585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BF6-6B69-41BA-AD9B-9D1B2C0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961D2-0D9E-4BD7-9126-692FB5DB6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