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33436"/>
        <c:axId val="38921337"/>
      </c:barChart>
      <c:catAx>
        <c:axId val="12833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21337"/>
        <c:crosses val="autoZero"/>
        <c:auto val="1"/>
        <c:lblAlgn val="ctr"/>
        <c:lblOffset val="100"/>
        <c:noMultiLvlLbl val="0"/>
      </c:catAx>
      <c:valAx>
        <c:axId val="38921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33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9A6-8CCB-4568-9F2F-0F5AF612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E94-CDDE-434A-B3E7-8EB4D3BD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45B-3071-489E-B1E4-382B73EB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599-0C9C-4D8E-859A-3B9C471A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FB8-7852-4B0D-9516-1C93186D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D20-F0FE-45F3-92ED-E85A9F92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6E0-7E9B-43ED-B761-DB443172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BE4-1E82-46AA-9441-1FBD375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24A-20A4-4EC3-8056-84666A0B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12A-1B85-4FA9-997A-12CE3C9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348-4B58-4E9F-BE1D-6EB6394F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16E-7C0E-4817-802D-6C8F2613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0B437-5141-4D00-8816-3C73515524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