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91649"/>
        <c:axId val="32177674"/>
      </c:barChart>
      <c:catAx>
        <c:axId val="259916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77674"/>
        <c:crosses val="autoZero"/>
        <c:auto val="1"/>
        <c:lblAlgn val="ctr"/>
        <c:lblOffset val="100"/>
        <c:noMultiLvlLbl val="0"/>
      </c:catAx>
      <c:valAx>
        <c:axId val="321776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916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107B-DE89-49D4-9D83-23ACAB0C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2A3E-9609-4A28-871A-40256E58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8AD7-C54A-4ACD-BB12-F4C063F7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9E70-451A-4804-AF51-A92E5B16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926-7739-4891-9AB9-1EED24AB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1078-AFAA-435C-9D59-3C9D94F1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673-9347-4430-965E-35D6FFA8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7DB5-F4AA-4C22-A5A3-7AAAFBF2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0A7B-7686-482B-B0DB-D0789BA8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0AA8-4344-4FAF-B335-A9FBECA5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3940-3F98-45F0-AF1D-CEE6FEC9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6B7A-55CD-4027-BF07-5E35DE4E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F16A2-6760-42C6-B2B5-F4BF803CAE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