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173529"/>
        <c:axId val="46930214"/>
      </c:barChart>
      <c:catAx>
        <c:axId val="191735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30214"/>
        <c:crosses val="autoZero"/>
        <c:auto val="1"/>
        <c:lblAlgn val="ctr"/>
        <c:lblOffset val="100"/>
        <c:noMultiLvlLbl val="0"/>
      </c:catAx>
      <c:valAx>
        <c:axId val="469302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735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AF53-E823-49B6-B75B-E6982D83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BFF9-7B1F-401C-AD40-420F019A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38C4-3F4B-43B6-AF7B-C9C0B559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4EC7-E044-42DE-91D8-8F486F059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3C88-7A58-4CB8-BE9E-7EB79CC3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FE90-869B-4AAD-AC99-A63737BE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FBEF-7A32-4712-BDCE-744E343B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E376-DD5F-453B-A790-1958BA3E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B8C7-85C3-401F-91B7-8979A0E8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A886-4665-408E-A571-4F0A6B70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DF7A-1CBA-4AB6-9AE7-404649B3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2ACD-DEF2-4E28-9D18-1B1D880F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54D74-CD43-4EF4-8638-5D5136A7F2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