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08650"/>
        <c:axId val="59585603"/>
      </c:barChart>
      <c:catAx>
        <c:axId val="87408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85603"/>
        <c:crosses val="autoZero"/>
        <c:auto val="1"/>
        <c:lblAlgn val="ctr"/>
        <c:lblOffset val="100"/>
        <c:noMultiLvlLbl val="0"/>
      </c:catAx>
      <c:valAx>
        <c:axId val="59585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8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AC5-9754-49D5-8FAF-0C3133FE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EA9-3FEB-43B8-878E-78A6BC3C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DC1-CBC4-49A1-AA68-3124BF15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E8D-2D18-4C2C-B6D2-224B9030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036-B32D-48CB-8C0F-6271E02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EF4-44AD-4553-B633-D4A3063E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ACA-916B-4EFE-956E-249510DB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10A-2374-44B2-AF29-0E32C8AA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8B3-A73E-4A92-8613-ACAA3A7A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77B-D12D-471A-801C-49B371E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15CD-6AE9-42E7-8F68-DBBEBCC2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400-D17E-4625-97BC-D4071C1D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85009-44F3-4C99-B3B3-28EA3C63C7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